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6760" y="1240920"/>
            <a:ext cx="446400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6B7F-A078-4446-A6E9-38D23F5F55EB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A1C5-566F-4A29-A157-A83F10F4FD9C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D036-5ACE-439D-B5AD-09BCA953A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7639-20A7-4120-96C0-00E86C5F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5243-5C64-438C-B112-DD8EB7666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C358-479C-4461-BE9D-9B7C3BED3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30F4-36F3-45AE-A3D4-DD8396D4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1441-CE83-43B3-B799-10BAF172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2BEC-6546-4512-A31C-F521A5C7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AD48-3939-46D8-9CD8-4861398A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EF90-0744-4D99-BF12-91A21B18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5324-2AB8-4495-A232-9A662EAE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D27C-F0E1-42AF-AD6F-D1068763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D251-AC49-426E-B48E-2FC1B8E7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C116-9164-46C3-921A-1AAF5CB55F4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bing.com/images/search?q=colnago+bikes+c+50&amp;FORM=HDRSC2" TargetMode="External"/><Relationship Id="rId2" Type="http://schemas.openxmlformats.org/officeDocument/2006/relationships/hyperlink" Target="https://www.bing.com/images/search?q=colnago+bikes+c+50&amp;FORM=HDRSC2" TargetMode="External"/><Relationship Id="rId3" Type="http://schemas.openxmlformats.org/officeDocument/2006/relationships/hyperlink" Target="https://www.bing.com/images/search?q=colnago+bikes+c+50&amp;FORM=HDRSC2" TargetMode="External"/><Relationship Id="rId4" Type="http://schemas.openxmlformats.org/officeDocument/2006/relationships/hyperlink" Target="https://www.bing.com/images/search?q=colnago+bikes+c+50&amp;FORM=HDRSC2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rank Dethridge Memorial Add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0066cc"/>
                </a:solidFill>
                <a:latin typeface="Arial"/>
              </a:rPr>
              <a:t>From automation to autonomy: Can the law keep 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aul David Q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Degrees of aut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MO-4 conditions from remote controlled and partially manned to fully autonomous with no cr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mportant point-remote control or fully autonomous when no master or cr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n-going scoping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undamentally changed the “ship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ffers opportunity and disru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appening</a:t>
            </a: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MO and CMI and various other countries’ regulators believe change is not so far aw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irst perhaps- specialist vessels – work boats, tugs, then ferries, small coastal trading shi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astal waters progressing to ocean b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im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aritime law principles broad system of longstanding legal principles relating to maritime v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gulation for safe operation and navigation, design and construction, manning, prevention of pollu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National law implements conventions and regulates natio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Can autonomous ships fit 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efinitions of “ship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Generally broad and inclusive in international and national re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Likely to cover unmanned 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ut substance of key international instruments/ domestic safety regulation impossible/hard to ap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ubstance doesn’t work</a:t>
            </a: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adical change in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gulation on certification, operation, watch- keeping, collision avoidance and manning unworkable or not clearly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Need new ru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ay well be a “ship” for registration/ jurisdi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ut substance of most of regulatory law hard/difficult to operate – COLREGS, STCW, SO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Need specific rules for approval and operation – equivalent performance to manned but ne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New liability scenario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Liability for loss and damage in acc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ossible shift in liability focus – from ship owner to manufacturer/ designer/ certif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ssues for national cou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surance issues, also cyber risk, new pira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hat are we d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MI work – IMO scoping exercis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ut at national level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xamine opportunity presented by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nsider national regulatory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mendments to regulate autonomous ships for operation in 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sailing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3505320" y="3614760"/>
            <a:ext cx="5475240" cy="30672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Last word – home for t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5639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ime to do the work is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evelop local expertise – local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otential real benefit for 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Need for clarit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art of wide ranging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iming uncer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ork to be done to keep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tennyson"/>
          <p:cNvPicPr/>
          <p:nvPr/>
        </p:nvPicPr>
        <p:blipFill>
          <a:blip r:embed="rId1"/>
          <a:stretch/>
        </p:blipFill>
        <p:spPr>
          <a:xfrm>
            <a:off x="5105520" y="1279440"/>
            <a:ext cx="3919320" cy="4724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Alfred Tenny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919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For I dip’t into the future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far as human eye could see,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Saw the vision of the world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and all the wonder that would be;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Saw the heavens fill with commerce, argosies of magic sails,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Pilots of the purple twiligh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dropping down with costly bales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My B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6">
            <a:hlinkClick r:id="rId1"/>
          </p:cNvPr>
          <p:cNvSpPr/>
          <p:nvPr/>
        </p:nvSpPr>
        <p:spPr>
          <a:xfrm>
            <a:off x="3424320" y="42624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">
            <a:hlinkClick r:id="rId2"/>
          </p:cNvPr>
          <p:cNvSpPr/>
          <p:nvPr/>
        </p:nvSpPr>
        <p:spPr>
          <a:xfrm>
            <a:off x="3424320" y="439884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>
            <a:hlinkClick r:id="rId3"/>
          </p:cNvPr>
          <p:cNvSpPr/>
          <p:nvPr/>
        </p:nvSpPr>
        <p:spPr>
          <a:xfrm>
            <a:off x="3424320" y="453564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9">
            <a:hlinkClick r:id="rId4"/>
          </p:cNvPr>
          <p:cNvSpPr/>
          <p:nvPr/>
        </p:nvSpPr>
        <p:spPr>
          <a:xfrm>
            <a:off x="3424320" y="46720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Colnago-C60-Italia-Campagnolo-Super-Record-Complete-Bike-01"/>
          <p:cNvPicPr/>
          <p:nvPr/>
        </p:nvPicPr>
        <p:blipFill>
          <a:blip r:embed="rId5"/>
          <a:stretch/>
        </p:blipFill>
        <p:spPr>
          <a:xfrm>
            <a:off x="533520" y="990720"/>
            <a:ext cx="8076960" cy="5387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1"/>
          <p:cNvSpPr/>
          <p:nvPr/>
        </p:nvSpPr>
        <p:spPr>
          <a:xfrm>
            <a:off x="2666880" y="59212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How I left my comfort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Port of Auck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port auckland"/>
          <p:cNvPicPr/>
          <p:nvPr/>
        </p:nvPicPr>
        <p:blipFill>
          <a:blip r:embed="rId1"/>
          <a:stretch/>
        </p:blipFill>
        <p:spPr>
          <a:xfrm>
            <a:off x="838080" y="990720"/>
            <a:ext cx="7658280" cy="5719680"/>
          </a:xfrm>
          <a:prstGeom prst="rect">
            <a:avLst/>
          </a:prstGeom>
          <a:ln w="0">
            <a:noFill/>
          </a:ln>
        </p:spPr>
      </p:pic>
      <p:pic>
        <p:nvPicPr>
          <p:cNvPr id="62" name="Text Box 13" descr=""/>
          <p:cNvPicPr/>
          <p:nvPr/>
        </p:nvPicPr>
        <p:blipFill>
          <a:blip r:embed="rId2"/>
          <a:stretch/>
        </p:blipFill>
        <p:spPr>
          <a:xfrm>
            <a:off x="4498920" y="5870520"/>
            <a:ext cx="46450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arbour traff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7"/>
          <p:cNvSpPr/>
          <p:nvPr/>
        </p:nvSpPr>
        <p:spPr>
          <a:xfrm>
            <a:off x="3484440" y="4208400"/>
            <a:ext cx="15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8"/>
          <p:cNvSpPr/>
          <p:nvPr/>
        </p:nvSpPr>
        <p:spPr>
          <a:xfrm>
            <a:off x="3484440" y="4344840"/>
            <a:ext cx="15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0"/>
          <p:cNvSpPr/>
          <p:nvPr/>
        </p:nvSpPr>
        <p:spPr>
          <a:xfrm>
            <a:off x="3505320" y="464832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1" descr="ferry"/>
          <p:cNvPicPr/>
          <p:nvPr/>
        </p:nvPicPr>
        <p:blipFill>
          <a:blip r:embed="rId1"/>
          <a:stretch/>
        </p:blipFill>
        <p:spPr>
          <a:xfrm>
            <a:off x="685800" y="1143000"/>
            <a:ext cx="4572000" cy="30592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2"/>
          <p:cNvSpPr/>
          <p:nvPr/>
        </p:nvSpPr>
        <p:spPr>
          <a:xfrm>
            <a:off x="3048120" y="609588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3" descr="Samskip"/>
          <p:cNvPicPr/>
          <p:nvPr/>
        </p:nvPicPr>
        <p:blipFill>
          <a:blip r:embed="rId2"/>
          <a:srcRect l="0" t="0" r="7000" b="0"/>
          <a:stretch/>
        </p:blipFill>
        <p:spPr>
          <a:xfrm>
            <a:off x="4495680" y="3352680"/>
            <a:ext cx="441972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E-scoo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limes"/>
          <p:cNvPicPr/>
          <p:nvPr/>
        </p:nvPicPr>
        <p:blipFill>
          <a:blip r:embed="rId1"/>
          <a:stretch/>
        </p:blipFill>
        <p:spPr>
          <a:xfrm>
            <a:off x="304920" y="1066680"/>
            <a:ext cx="7315200" cy="49006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2825640" y="5738760"/>
            <a:ext cx="6318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The changes on my ride got me 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Questions ari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argo ships without master, pilot or cre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erries with passengers but no master or cre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utomated cargo operations in port – digitally linked to autonomous shi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at will the effects and issues around this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9" descr="yara-birkeland-photo-macgregor-101301"/>
          <p:cNvPicPr/>
          <p:nvPr/>
        </p:nvPicPr>
        <p:blipFill>
          <a:blip r:embed="rId2"/>
          <a:srcRect l="9599" t="0" r="11894" b="17086"/>
          <a:stretch/>
        </p:blipFill>
        <p:spPr>
          <a:xfrm>
            <a:off x="4114800" y="762120"/>
            <a:ext cx="5029200" cy="31240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533520" y="22176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Autonomous ship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0" descr="max limer2"/>
          <p:cNvPicPr/>
          <p:nvPr/>
        </p:nvPicPr>
        <p:blipFill>
          <a:blip r:embed="rId3"/>
          <a:stretch/>
        </p:blipFill>
        <p:spPr>
          <a:xfrm>
            <a:off x="0" y="3575160"/>
            <a:ext cx="5334120" cy="32828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21"/>
          <p:cNvSpPr/>
          <p:nvPr/>
        </p:nvSpPr>
        <p:spPr>
          <a:xfrm>
            <a:off x="1905120" y="1477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Yara Birk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2"/>
          <p:cNvSpPr/>
          <p:nvPr/>
        </p:nvSpPr>
        <p:spPr>
          <a:xfrm>
            <a:off x="304920" y="37339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USV Maxli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3"/>
          <p:cNvSpPr/>
          <p:nvPr/>
        </p:nvSpPr>
        <p:spPr>
          <a:xfrm>
            <a:off x="5421240" y="4549680"/>
            <a:ext cx="241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FinFerries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80 passen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ow does technology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ata collection by sen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al-time status of ship relayed to computers on board or to shore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nalysis and responses given to carry out operation of 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ll linked to advances in robotics, sensors and artificial intelligence/learning comp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09T07:02:50Z</dcterms:created>
  <dc:creator>Paul David</dc:creator>
  <dc:description/>
  <dc:language>en-US</dc:language>
  <cp:lastModifiedBy>Anna Christie</cp:lastModifiedBy>
  <cp:lastPrinted>2019-09-19T03:40:44Z</cp:lastPrinted>
  <dcterms:modified xsi:type="dcterms:W3CDTF">2019-09-23T04:00:48Z</dcterms:modified>
  <cp:revision>23</cp:revision>
  <dc:subject/>
  <dc:title>Frank Dethridge Memorial Address</dc:title>
</cp:coreProperties>
</file>